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E96-7922-4F4C-8064-B86C9688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732-81BC-4F9B-A86C-7A784854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AE0-A52A-4733-A5D4-6E97A6D8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06F-41EE-43ED-A03B-3EAEA765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1FF-729B-46E5-9C7F-40EB0631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01F-D865-4149-912A-23E23EC8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7A6-3AF1-4806-B8F1-518BBBE7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E74-709F-47B7-AF2C-04F40D93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C99-9368-4B96-9E4B-2FC86DDE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B14-549F-4ECB-BF44-FA59A90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6AB-9938-4102-A4FF-6A3612AF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469-0822-41B1-B813-7398C030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D4E7-44A1-4924-903A-A4D0FBC6E0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5200">
            <a:off x="2531880" y="990720"/>
            <a:ext cx="456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数星星的孩子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28320" y="836640"/>
            <a:ext cx="850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牛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1880" y="476280"/>
            <a:ext cx="1642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织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u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32720" y="114300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张衡是汉朝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78--139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我国著名的天文学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9640" y="112536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张衡是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2276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这个数星星的孩子名字叫张衡，是汉朝人。他长大以后刻苦钻研天文，成为著名的天文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1905120"/>
            <a:ext cx="46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晚上，无边无际的星空是怎样的美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96252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蓝天  满天星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闪一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27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满天的星星像无数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珍珠撒在夜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371628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喻句：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   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371628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珍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2060640"/>
            <a:ext cx="739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较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空中有无数星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满天的星星像无数颗珍珠撒在夜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81080" y="1143000"/>
            <a:ext cx="46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张衡在干什么？圈出动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933720"/>
            <a:ext cx="54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到了几百颗（说明了什么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3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1143000"/>
            <a:ext cx="52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爷爷的话告诉张衡哪些知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5909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斗星像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勺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2:19:54Z</dcterms:created>
  <dc:creator>X-man</dc:creator>
  <dc:description/>
  <dc:language>en-US</dc:language>
  <cp:lastModifiedBy>微软用户</cp:lastModifiedBy>
  <dcterms:modified xsi:type="dcterms:W3CDTF">2012-04-24T02:31:19Z</dcterms:modified>
  <cp:revision>50</cp:revision>
  <dc:subject/>
  <dc:title>PowerPoint 演示文稿</dc:title>
</cp:coreProperties>
</file>